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706B-C76A-4624-B387-6782399A5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EF79-B49C-4816-8BAD-F6C90EABE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4E36-2C80-446E-B414-1167FA2F1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1AFF-C904-447C-B1A1-C57006224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36A5-E222-49CD-B67C-8A5C86EFB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D66C-7093-4AA7-9864-0875D5EFC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B8BE-52F1-4BEC-A0B0-6620F4B08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70EC-FEB1-4B0B-A572-F74FE173A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3DEC-7668-44AC-ACED-C5EB43902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CCB8-5ACB-4E07-9CE7-BAF0B1473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9CF4-46D0-48FE-B4DA-64CA88C05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C5B1-38E9-4DCA-9472-50AA137BE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FC2A0-7F91-4470-ACC3-D332FEC258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Calibri"/>
              </a:rPr>
              <a:t>PRĂJITURI CU FRIŞCĂ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pentru calificarea Cofetar – Patiser,  Anul de completare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coord. Cristian Dincă)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1"/>
          <p:cNvSpPr/>
          <p:nvPr/>
        </p:nvSpPr>
        <p:spPr>
          <a:xfrm>
            <a:off x="214200" y="572400"/>
            <a:ext cx="860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533520" y="6248520"/>
            <a:ext cx="2571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siunea iunie - iul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0504d"/>
            </a:gs>
            <a:gs pos="100000">
              <a:srgbClr val="d7b93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68000" y="907920"/>
            <a:ext cx="4390920" cy="555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ăjiturile cu frişcă sunt prăjituri cu o structură eterogenă (în ceea ce priveşte suportul), iar în componenţa lor se foloseşte o mare cantitate de frişcă. Ele se pot prezenta fie la bucată (rotunde, tronconice, sub formă de scafă, pătrate, dreptunghiulare), fie ca piese întregi, paralelipipedi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structura prăjiturii, frişca bătută îndeplineşte următoarele funcţii: componentă de umplere a prăjiturii, înlocuind sau completând crema; componentă a cremei, imprimând structura afânată; componen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pentru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ecorare; furnizoare de factori nutritivi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ehnologia prăjiturilor cu frişcă este variată, dar se impune respectarea următoarelor cerinţe: indiferent de funcţie, frişca se foloseşte bătută, iar baterea se face în momentul utilizării; dacă este o componentă a cremei, frişca trebuie însoţită de gelatină care are rolul de a stabiliza structura spumoasă; dacă este utilizată la decorare, se va turna cu puţin timp înaintea expedierii spre vânzare, cu poşul cu spriţ mare (pentru a evita eliminarea aerului şi a umidităţii prin presarea intensă a poşului). 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treaga structură a prăjiturilor cu frişcă este un concentrat de factori nutritivi cu valoare biologică mare, proteine complete, lipide emulsionate, vitaminele liposolubile A şi D, substanţe minerale (Ca, P, Fe) glucide simp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rişca bătută, element de bază, participă la întregirea sau echilibrarea valorii alimentare a prăjiturilo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n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frişc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539640" y="260280"/>
            <a:ext cx="83534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7" descr="comp_i"/>
          <p:cNvPicPr/>
          <p:nvPr/>
        </p:nvPicPr>
        <p:blipFill>
          <a:blip r:embed="rId1"/>
          <a:stretch/>
        </p:blipFill>
        <p:spPr>
          <a:xfrm>
            <a:off x="5508720" y="1557360"/>
            <a:ext cx="267660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ăjituri cu frişcă cu supo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in cataif – cataif cu frişcă. Operaţii pregătitoare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pararea cataifului cru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pararea siropului [...]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gătirea cataifului însiropat [...]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in aluat dospit – Savarină. Operaţii pregătitoa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pararea aluatului dospi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orţionarea aluatului în forme pentru savarine unse uşor cu ulei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ospirea finală, coacerea la foc potrivit, scoaterea în stare caldă, răcirea. [...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in coji indiene – Indiene cu frişcă. Operaţii pregătitoa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niformizarea cojilor şi împerecherea lor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luidizarea fondantului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ramparea şi glasarea suprafeţei bombate pentru jumătate din numărul cojilor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in pişcoturi de şampanie – Prăjitura Diplomat. Operaţii pregătitoa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jumătate din cantitatea de pişcoturi se taie în două, transversal (pe lăţime), se aşază pe platou pentru a se stropi cu 1/2 din cantitatea de lichior Triple sec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mogenizarea cremei şarlotă de vanilie cu răzătură de portocale şi fructe confiate asortat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ăierea fructelor confiate după scurgerea de sirop, pentru decorare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539640" y="260280"/>
            <a:ext cx="7848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1T15:51:42Z</dcterms:created>
  <dc:creator>CNEE</dc:creator>
  <dc:description/>
  <dc:language>en-US</dc:language>
  <cp:lastModifiedBy>s6b2</cp:lastModifiedBy>
  <dcterms:modified xsi:type="dcterms:W3CDTF">2012-06-18T11:11:49Z</dcterms:modified>
  <cp:revision>30</cp:revision>
  <dc:subject/>
  <dc:title>SALARIUL</dc:title>
</cp:coreProperties>
</file>